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CEB-064D-4F52-A8B5-1B37BC55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91B-6BD2-4B34-9E6F-11DF579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B4E-1EBB-4C3C-85D9-F5776DA2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676-C675-4CC8-BC0B-9254A761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A6AC-7E2F-48B1-9276-48668946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6CA9-FF5A-46F1-9628-A4CC0A73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655E-2C1D-4A5D-AD6A-27886AE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14E6-89FF-4652-B353-896D5A35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A54C-129E-4674-A8CF-FA71FF26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0F39-2BD1-4734-8105-16C16E7E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637-A289-4591-BCC2-712993D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D48-E9D8-4F94-9EA0-EFF7DCE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13C3-3D70-4772-963D-256C6BB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61E-59BF-4968-9D85-8669F72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5A7B-808A-4709-A420-7F2B8AB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6950-03D7-4FCA-8D75-47DDCD70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7183-E084-4E41-B369-A0192B39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182-EC8C-45D7-9370-9B7B42B6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A87-E378-4D19-A7CA-A15DAF7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740-5E1E-4371-80D0-ACF6E9C0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CF1-8B3A-472D-B455-BEEFF4CA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1EB-6FA0-4AB9-9588-800A74E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B84-6F40-4EBF-B260-07C58BC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AB2-491D-40DC-B31C-1218555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2760"/>
                  <a:ext cx="1063800" cy="1141200"/>
                  <a:chOff x="783396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2920"/>
                    <a:ext cx="8856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840"/>
                    <a:ext cx="425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880" cy="327240"/>
                  <a:chOff x="784584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46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120" y="456120"/>
                    <a:ext cx="338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6120"/>
                  <a:ext cx="1060920" cy="1141560"/>
                  <a:chOff x="6539400" y="906120"/>
                  <a:chExt cx="106092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840"/>
                    <a:ext cx="87984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360"/>
                    <a:ext cx="4716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600"/>
                  <a:ext cx="915480" cy="1248480"/>
                  <a:chOff x="6710760" y="930600"/>
                  <a:chExt cx="91548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040" y="1259640"/>
                    <a:ext cx="8928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120" cy="1248120"/>
                  <a:chOff x="7014960" y="979560"/>
                  <a:chExt cx="61812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840"/>
                    <a:ext cx="82656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480"/>
                    <a:ext cx="4381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600" cy="1217160"/>
                  <a:chOff x="7312320" y="1001160"/>
                  <a:chExt cx="36360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37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1480" y="1877760"/>
                    <a:ext cx="42228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520" y="1404360"/>
                    <a:ext cx="743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920" y="1927440"/>
                    <a:ext cx="398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B4E8-C831-4F9B-9238-1E73010A7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600"/>
              <a:ext cx="945720" cy="709920"/>
              <a:chOff x="3484080" y="95760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60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3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0200"/>
                    <a:ext cx="2560320" cy="2741760"/>
                    <a:chOff x="5760000" y="2320200"/>
                    <a:chExt cx="2560320" cy="27417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8240"/>
                      <a:ext cx="2129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400" y="4141800"/>
                      <a:ext cx="114048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3800"/>
                    <a:ext cx="3040200" cy="2531160"/>
                    <a:chOff x="5787360" y="2143800"/>
                    <a:chExt cx="3040200" cy="25311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6320"/>
                    <a:ext cx="3134160" cy="1609200"/>
                    <a:chOff x="5767920" y="1966320"/>
                    <a:chExt cx="3134160" cy="160920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556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6984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1760"/>
                    <a:ext cx="2363760" cy="784080"/>
                    <a:chOff x="5788440" y="1301760"/>
                    <a:chExt cx="236376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03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6000" cy="2738520"/>
                    <a:chOff x="2646000" y="2472120"/>
                    <a:chExt cx="2556000" cy="27385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8720"/>
                      <a:ext cx="212472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1920"/>
                      <a:ext cx="113976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200"/>
                    <a:ext cx="3038400" cy="2531880"/>
                    <a:chOff x="2084760" y="2365200"/>
                    <a:chExt cx="303840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840"/>
                      <a:ext cx="223416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20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9920"/>
                    <a:chOff x="2010960" y="2183760"/>
                    <a:chExt cx="313452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8280" y="1234440"/>
                    <a:ext cx="2322720" cy="1081800"/>
                    <a:chOff x="2888280" y="1234440"/>
                    <a:chExt cx="232272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16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8360"/>
                      <a:ext cx="816120" cy="41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7280"/>
                    <a:ext cx="2170800" cy="1506240"/>
                    <a:chOff x="3160440" y="827280"/>
                    <a:chExt cx="2170800" cy="15062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5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880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560" cy="1829160"/>
                    <a:chOff x="3437280" y="434160"/>
                    <a:chExt cx="198756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580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9480" y="322200"/>
                    <a:ext cx="1460880" cy="1898640"/>
                    <a:chOff x="4029480" y="322200"/>
                    <a:chExt cx="1460880" cy="1898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488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520"/>
                    <a:ext cx="2319120" cy="1112400"/>
                    <a:chOff x="5661720" y="947520"/>
                    <a:chExt cx="231912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84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5760"/>
                      <a:ext cx="8175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9680" y="268200"/>
                    <a:ext cx="1190520" cy="1895040"/>
                    <a:chOff x="5359680" y="268200"/>
                    <a:chExt cx="1190520" cy="18950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120" y="141084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920"/>
                      <a:ext cx="7045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9080"/>
                    <a:ext cx="1890720" cy="1798200"/>
                    <a:chOff x="5349960" y="379080"/>
                    <a:chExt cx="1890720" cy="17982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916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4920"/>
                    <a:ext cx="1481400" cy="3004920"/>
                    <a:chOff x="3790800" y="2644920"/>
                    <a:chExt cx="1481400" cy="30049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65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6480" y="2692800"/>
                    <a:ext cx="874800" cy="2934360"/>
                    <a:chOff x="4506480" y="2692800"/>
                    <a:chExt cx="874800" cy="29343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0600" y="3481200"/>
                      <a:ext cx="189288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4640" y="480492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89840"/>
                    <a:ext cx="1757160" cy="3032640"/>
                    <a:chOff x="5646600" y="2589840"/>
                    <a:chExt cx="175716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200" y="3393000"/>
                      <a:ext cx="203652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852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7360"/>
                <a:chOff x="2174400" y="676800"/>
                <a:chExt cx="6732720" cy="45273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7360"/>
                  <a:chOff x="2174400" y="676800"/>
                  <a:chExt cx="6732720" cy="45273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49600"/>
                    <a:ext cx="3166560" cy="252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000"/>
                    <a:ext cx="248688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080"/>
                    <a:ext cx="1758240" cy="2939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56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0160"/>
              <a:ext cx="6411960" cy="4712040"/>
              <a:chOff x="2343960" y="74016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6412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0856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064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6688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7908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6540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76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757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1352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2632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3704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3840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016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304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1C87-5113-4A17-BCF5-116FF66A372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Immigration and Citizenship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6e81"/>
                </a:solidFill>
                <a:latin typeface="Arial Black"/>
              </a:rPr>
              <a:t>4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During this time, immigrants must study English, American History, and Civics. A basic knowledge of each must be demonstra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ization Step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6e81"/>
                </a:solidFill>
                <a:latin typeface="Arial Black"/>
              </a:rPr>
              <a:t>5.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 application for naturalization must be filed with the USCIS. A fee of $675.00 must accompany the applic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6e81"/>
                </a:solidFill>
                <a:latin typeface="Arial Black"/>
              </a:rPr>
              <a:t>6.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approved, the immigrant meets with an immigration examiner. If the examiner is satisfied with the immigrant’s responses to a series of questions, then the immigrant is ready to be a citize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6e81"/>
                </a:solidFill>
                <a:latin typeface="Arial Black"/>
              </a:rPr>
              <a:t>7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immigrant takes a loyalty oath to the United States. After taking the oath, the individual is officially declared a US citiz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3525840" y="4114800"/>
            <a:ext cx="204804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deo Cli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 will watch the following video clip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 Becoming a U.S. Citizen: An Overview of the Naturalization Proc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The USCIS Naturalization Interview an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. New citizens taking the Oath of Allegiance in Arizona and New Yor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ww.uscis.go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www.abc15.com/dpp/news/region_phoenix_metro/central_phoenix/nearly-200-take-the-oath-and-become-americ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abclocal.go.com/wabc/story?section=news/local&amp;id=753369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tizen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citizen is a member of a community who owes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oyalty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o the government and is entitled to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rotection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om i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904840" cy="29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individuals become citizen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 individual becomes a citizen of the United States by birth or by the process of naturalizatio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tizenship by Birth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re are two ways to become a citizen of the United States by birth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y being born within the geographic borders of the United States or any of its territories. (jus soli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y being born to parents that are citizens of the United States or if one parent is a citizen who has lived in the United States. (jus sanguin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itizens may hold dual citizenship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migrants and Non-Citize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immigrant is a person who comes to a country with the intention of living there permanentl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remov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remov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" dur="250" autoRev="1" fill="remov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al and Illegal Immigra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</a:t>
            </a:r>
            <a:r>
              <a:rPr b="0" lang="en-US" sz="3200" spc="-1" strike="noStrike">
                <a:solidFill>
                  <a:srgbClr val="92d050"/>
                </a:solidFill>
                <a:latin typeface="Arial Black"/>
              </a:rPr>
              <a:t>legal immigrant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someone who has come to the country </a:t>
            </a:r>
            <a:r>
              <a:rPr b="0" lang="en-US" sz="3200" spc="-1" strike="noStrike">
                <a:solidFill>
                  <a:srgbClr val="92d050"/>
                </a:solidFill>
                <a:latin typeface="Arial Black"/>
              </a:rPr>
              <a:t>with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</a:t>
            </a:r>
            <a:r>
              <a:rPr b="0" lang="en-US" sz="3200" spc="-1" strike="noStrike">
                <a:solidFill>
                  <a:srgbClr val="92d050"/>
                </a:solidFill>
                <a:latin typeface="Arial Black"/>
              </a:rPr>
              <a:t>permissi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the government, while an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llegal immigrant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s come to the country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withou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government’s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permissi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ie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alien is an individual who lives in a country but is not a citizen of that country. (To be classified as a legal/illegal alien it is the same criteria as for legal and illegal immigrants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338640" y="4876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itizenship by Naturaliz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process by which a person that is not a citizen by birth becomes a citize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-763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ization  (7) Ste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ENTER THE COUNTRY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LEGAL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le a Declaration of Intention with the U.S. Citizenship and Immigration Services (USCI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mmigrants must spend a certain amount of time living in the United States (Most 5 years; 3 years if married to a citizen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4:54:31Z</dcterms:created>
  <dc:creator>Owner</dc:creator>
  <dc:description/>
  <dc:language>en-US</dc:language>
  <cp:lastModifiedBy>SysAdmin</cp:lastModifiedBy>
  <dcterms:modified xsi:type="dcterms:W3CDTF">2011-08-25T17:28:44Z</dcterms:modified>
  <cp:revision>36</cp:revision>
  <dc:subject/>
  <dc:title>Slide 1</dc:title>
</cp:coreProperties>
</file>